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65F-24AE-4530-9C38-5A395FF9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193-FE7F-45BE-A115-B0E4BE91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7D2-744B-40E3-8394-C94CF39F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105-42EA-4977-B62C-6788ACF9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854-568D-4E75-827D-3BE30E2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A26-A4F6-4D47-BE0B-68270F6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E91-3169-4A9E-95EA-AC8651E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B95-1D55-4DCC-A7AA-751EBFA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B71-D8AE-4512-8F50-D6BFFAE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221-2965-47D1-8F6E-FBB0B931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206-4B4F-478B-81AE-1056238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896-9E13-460D-9360-74DA513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h-TH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862E41-47D2-4437-B94E-23698213D9A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8578800"/>
            <a:ext cx="1219320" cy="11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19320" y="3276720"/>
            <a:ext cx="435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ประจำปีงบประมาณ พ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ศ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2551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4382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คำรับรองการปฏิบัติราชการ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2680" y="8972640"/>
            <a:ext cx="50292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33760" y="533520"/>
            <a:ext cx="158904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20680" y="4572000"/>
            <a:ext cx="4616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8420040"/>
            <a:ext cx="441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962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ถนนกรุงเกษม แขวงวัดโสมนัส                      เขตป้อมปราบศัตรูพ่าย กรุงเทพฯ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10100 </a:t>
            </a: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http://www.nesdb.go.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7467480"/>
            <a:ext cx="4953240" cy="162000"/>
            <a:chOff x="380880" y="7467480"/>
            <a:chExt cx="4953240" cy="162000"/>
          </a:xfrm>
        </p:grpSpPr>
        <p:sp>
          <p:nvSpPr>
            <p:cNvPr id="50" name=""/>
            <p:cNvSpPr/>
            <p:nvPr/>
          </p:nvSpPr>
          <p:spPr>
            <a:xfrm>
              <a:off x="380880" y="7629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467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924200" y="79246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84280" y="85392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4:04:20Z</dcterms:created>
  <dc:creator>win</dc:creator>
  <dc:description/>
  <dc:language>en-US</dc:language>
  <cp:lastModifiedBy>chura</cp:lastModifiedBy>
  <dcterms:modified xsi:type="dcterms:W3CDTF">2008-04-25T06:27:03Z</dcterms:modified>
  <cp:revision>65</cp:revision>
  <dc:subject/>
  <dc:title>Slide 1</dc:title>
</cp:coreProperties>
</file>